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1240-299A-4987-B931-3901EBC4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360C-E1F0-4F5C-94A0-0F7D3A1D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90B-B9AA-4B76-B924-9B4FE861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3782-E10F-4DDD-B4CB-52A099C0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7091-18C5-43BC-A1F1-1D048AEA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AC63-F316-4662-80A9-3B5D44D8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0DEC-3BCE-48DE-94E7-2374F65D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AE61-9689-430A-8E4A-F2A9103C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4EF5-0196-44F4-BE0F-ACE56D59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D102-2811-4B7C-ABEC-57690C2A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D28C-47B3-4ABA-A5EF-5BD07C28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40D2-D12B-49CA-B5AC-7BB6F41E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4D9E-1ABD-43DB-A85B-0DFE9D6B726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Clientes\Alpa\2011\Manual de Aplicação\Conteúdo\PNG\Colorida.png"/>
          <p:cNvPicPr/>
          <p:nvPr/>
        </p:nvPicPr>
        <p:blipFill>
          <a:blip r:embed="rId1"/>
          <a:stretch/>
        </p:blipFill>
        <p:spPr>
          <a:xfrm>
            <a:off x="792000" y="1424160"/>
            <a:ext cx="756000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8T20:02:48Z</dcterms:created>
  <dc:creator>Cliente</dc:creator>
  <dc:description/>
  <dc:language>en-US</dc:language>
  <cp:lastModifiedBy>Cliente</cp:lastModifiedBy>
  <dcterms:modified xsi:type="dcterms:W3CDTF">2011-06-28T20:03:28Z</dcterms:modified>
  <cp:revision>1</cp:revision>
  <dc:subject/>
  <dc:title>Slide 1</dc:title>
</cp:coreProperties>
</file>